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026D-A208-43EE-A9A9-596928953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0E72A-675C-4427-A206-7FB461DFA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9C7627-4D26-4ED4-973D-1725965E8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8B881-7871-4225-BA03-C7EBAB31C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E380F-B5B0-40AF-9F36-888F5842E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53520-5F49-42A3-8D74-BC9A84A96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99F50-06EB-4DAE-BB12-B46ED0231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1900-1A8C-4E31-9E21-1B0A40F99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7555-E251-40B8-9527-B9D257EC0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A029-1B41-4BBA-85F1-DE2BA182E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9E6AC-9660-473F-AEC4-3EBB28A187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9081D-43F9-44AA-84D0-35330AB93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54690-8234-463E-B072-456BE141035B}"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0AA1AF-E5A9-4603-8273-782F82EB161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lidarity</a:t>
            </a: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898989"/>
              </a:solidFill>
              <a:latin typeface="Calibri"/>
            </a:endParaRPr>
          </a:p>
        </p:txBody>
      </p:sp>
      <p:pic>
        <p:nvPicPr>
          <p:cNvPr id="43" name="Picture 4" descr="Solidarity_logo.png"/>
          <p:cNvPicPr/>
          <p:nvPr/>
        </p:nvPicPr>
        <p:blipFill>
          <a:blip r:embed="rId1"/>
          <a:stretch/>
        </p:blipFill>
        <p:spPr>
          <a:xfrm>
            <a:off x="1644480" y="1389240"/>
            <a:ext cx="5962680" cy="306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IMS TODAY</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Explore the Solidarity movement in more detail using original footage and documentary evidence</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ork in pairs to explore the causes, events and consequences of the movement</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Produce a factual report in ‘news styl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rter</a:t>
            </a:r>
            <a:endParaRPr b="0" lang="en-US" sz="4400" spc="-1" strike="noStrike">
              <a:solidFill>
                <a:srgbClr val="000000"/>
              </a:solidFill>
              <a:latin typeface="Calibri"/>
            </a:endParaRPr>
          </a:p>
        </p:txBody>
      </p:sp>
      <p:sp>
        <p:nvSpPr>
          <p:cNvPr id="47" name="Rectangle 3"/>
          <p:cNvSpPr/>
          <p:nvPr/>
        </p:nvSpPr>
        <p:spPr>
          <a:xfrm>
            <a:off x="1658880" y="3105000"/>
            <a:ext cx="579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CYpPgGDVxOU</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TextBox 4"/>
          <p:cNvSpPr/>
          <p:nvPr/>
        </p:nvSpPr>
        <p:spPr>
          <a:xfrm>
            <a:off x="2011320" y="1847880"/>
            <a:ext cx="489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ake notes as you wat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Working </a:t>
            </a:r>
            <a:br>
              <a:rPr sz="4000"/>
            </a:br>
            <a:r>
              <a:rPr b="0" lang="en-US" sz="4000" spc="-1" strike="noStrike">
                <a:solidFill>
                  <a:srgbClr val="000000"/>
                </a:solidFill>
                <a:latin typeface="Calibri"/>
              </a:rPr>
              <a:t>Partners</a:t>
            </a:r>
            <a:endParaRPr b="0" lang="en-US" sz="40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eorge and Brand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ergus and Joh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atherine and Christ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ulia and G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an and Ceci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ssica and N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vy and Tomm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roduce a News Report on the Solidarity Movement</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need to include:</a:t>
            </a:r>
            <a:endParaRPr b="0" lang="en-US" sz="32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there was unrest in Polan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government attempted to control the Solidarity move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y the shipyard in Gdansk became famous</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Polish people showed their dissatisfaction with the govern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the Soviet Union reacted to the challenge</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main personalities involved Lech Walesa, General Jaruzelski</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challenges Solidarity encountere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consequences ( successes ) of the movement</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Add dates, agreements and visuals to support the points that you make. Use your video notes and text book notes. Try to find the Soviet view of the events from ‘Pravd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Source 1</a:t>
            </a:r>
            <a:br>
              <a:rPr sz="4000"/>
            </a:br>
            <a:r>
              <a:rPr b="0" lang="en-US" sz="4000" spc="-1" strike="noStrike">
                <a:solidFill>
                  <a:srgbClr val="000000"/>
                </a:solidFill>
                <a:latin typeface="Calibri"/>
              </a:rPr>
              <a:t>A message from America</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FkKVYjw1Ehc&amp;feature=related</a:t>
            </a:r>
            <a:endParaRPr b="0" lang="en-US" sz="1800" spc="-1" strike="noStrike">
              <a:solidFill>
                <a:srgbClr val="000000"/>
              </a:solidFill>
              <a:latin typeface="Calibri"/>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TextBox 3"/>
          <p:cNvSpPr/>
          <p:nvPr/>
        </p:nvSpPr>
        <p:spPr>
          <a:xfrm>
            <a:off x="2954160" y="2446200"/>
            <a:ext cx="5156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Calibri"/>
              </a:rPr>
              <a:t>Source 2</a:t>
            </a:r>
            <a:br>
              <a:rPr sz="3600"/>
            </a:br>
            <a:r>
              <a:rPr b="0" lang="en-US" sz="3600" spc="-1" strike="noStrike">
                <a:solidFill>
                  <a:srgbClr val="000000"/>
                </a:solidFill>
                <a:latin typeface="Calibri"/>
              </a:rPr>
              <a:t>As it happened…</a:t>
            </a:r>
            <a:endParaRPr b="0" lang="en-US" sz="3600" spc="-1" strike="noStrike">
              <a:solidFill>
                <a:srgbClr val="000000"/>
              </a:solidFill>
              <a:latin typeface="Calibri"/>
            </a:endParaRPr>
          </a:p>
        </p:txBody>
      </p:sp>
      <p:sp>
        <p:nvSpPr>
          <p:cNvPr id="56" name="Rectangle 7"/>
          <p:cNvSpPr/>
          <p:nvPr/>
        </p:nvSpPr>
        <p:spPr>
          <a:xfrm>
            <a:off x="905040" y="4338720"/>
            <a:ext cx="778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ttp://www.youtube.com/watch?v=qPLE3Y3gvMQ&amp;feature=relat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7T11:50:58Z</dcterms:created>
  <dc:creator>Rachel</dc:creator>
  <dc:description/>
  <dc:language>en-US</dc:language>
  <cp:lastModifiedBy>Rachel</cp:lastModifiedBy>
  <dcterms:modified xsi:type="dcterms:W3CDTF">2011-03-07T12:55:01Z</dcterms:modified>
  <cp:revision>1</cp:revision>
  <dc:subject/>
  <dc:title>Solidarity </dc:title>
</cp:coreProperties>
</file>